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E8E-AF94-47D4-9E66-0B0BC762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2C13-8FEF-4744-B322-680155B6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115D-FF9F-4830-BC98-7C7A2211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4E7-8AC8-4C07-8800-A93B6727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9EA-E8B3-4420-81B9-04502B7A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E5C-8564-40A4-9DCE-C7BA81F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53EC-DC7E-4781-B4D5-4F8F02A9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AA8-31A7-4E4B-9684-111B8ACC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7014-1CD2-41FF-98D6-93560946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925-7B11-421A-A047-5A931E3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4AF1-29C3-4D53-949C-44776C3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5C9-6EB0-4871-BA07-7960DAA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a3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E930-BC8F-4698-97B5-B2079051FA57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www.gay-poppers.com/shopping/sc_images/poppers.gif&amp;imgrefurl=http://www.gay-poppers.com/shopping/store.php&amp;usg=__o7XpD0IG1xi9q881DXfEjxRTYJA=&amp;h=415&amp;w=1288&amp;sz=316&amp;hl=ro&amp;start=13&amp;zoom=1&amp;tbnid=LYMH08egOP7UDM:&amp;tbnh=48&amp;tbnw=150&amp;ei=Nqt8TaOrFoOb8QOcquy7BA&amp;prev=/images%3Fq%3Dpoppers%26hl%3Dro%26biw%3D1020%26bih%3D569%26gbv%3D2%26tbs%3Disch:1&amp;itbs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na.gov.ro/rom/tipuridroguri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Clasificarea drogurilor</a:t>
            </a:r>
            <a:br>
              <a:rPr sz="3600"/>
            </a:b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da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ă de Agenţia Naţională Antid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Haşişul şi marih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Opiacee (hero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Halucino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Amfeta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Sedative şi somnif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oca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cs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Droguri de petrecere (party dru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Metad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Solvenţi </a:t>
            </a:r>
            <a:br>
              <a:rPr sz="1800"/>
            </a:br>
            <a:r>
              <a:rPr b="1" lang="ro-RO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rg_hi" descr="ANd9GcSRS9aLL1iqrOtdQy8muwQM2aNY-DLBpO21PhumvSW8g6gtjH4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4221000"/>
            <a:ext cx="3745080" cy="2040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Droguri de petrecere (party drug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37404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t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senzaţie de căldură a pi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hipox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posibil co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nconşti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ritarea pielii şi a mucoas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40388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ritarea mucoasei naz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aritmii cardi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- impot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tipuridroguri_45"/>
          <p:cNvPicPr/>
          <p:nvPr/>
        </p:nvPicPr>
        <p:blipFill>
          <a:blip r:embed="rId1"/>
          <a:stretch/>
        </p:blipFill>
        <p:spPr>
          <a:xfrm>
            <a:off x="539640" y="1341360"/>
            <a:ext cx="7920000" cy="4751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Metado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efect sed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ranspiratii profu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mi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rar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otens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constip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depresie respirat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depresia respiratorie sev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otensiune marc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ahicar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hiperter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70c0"/>
                </a:solidFill>
                <a:latin typeface="Arial"/>
              </a:rPr>
              <a:t>- tulburari de constienta pana la 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g_hi" descr="ANd9GcSwSZv8z3KJN6aXMV9XlCcW_2788nw59Lgh1BCguqWoCDhz7B91"/>
          <p:cNvPicPr/>
          <p:nvPr/>
        </p:nvPicPr>
        <p:blipFill>
          <a:blip r:embed="rId1"/>
          <a:stretch/>
        </p:blipFill>
        <p:spPr>
          <a:xfrm>
            <a:off x="539640" y="1413000"/>
            <a:ext cx="7920000" cy="4680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Solven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leziuni hep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flamaţii ale nerv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nevralgii ale feţ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uferinţe cardiace condiţionate ner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ări confu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reacţii de hiperexcita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anxietate şi pan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arsuri şi combustii (arsuri chimice) ale căilor respirato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aralizia respir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tulburări central nervoase gr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lirium tre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opul respi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lapsul cardio-cir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tipuridroguri_02m"/>
          <p:cNvPicPr/>
          <p:nvPr/>
        </p:nvPicPr>
        <p:blipFill>
          <a:blip r:embed="rId1"/>
          <a:stretch/>
        </p:blipFill>
        <p:spPr>
          <a:xfrm>
            <a:off x="4500720" y="3141720"/>
            <a:ext cx="4319280" cy="2879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Haşişul şi marihun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eşterea frecvenţei puls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area fluxului sanguin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căderea tensiunsii ar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uscarea mucoasei nazale ş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aring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vom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ia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enzaţie imperioasă de fo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are de agitaţie, însoţită ocazion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stare de tensiune şi anxietate, stări ce vor fi urmate în curând de o senzaţie plăcută de siguranţă şi ocro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hepa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pulm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psiho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tipuridroguri_18m"/>
          <p:cNvPicPr/>
          <p:nvPr/>
        </p:nvPicPr>
        <p:blipFill>
          <a:blip r:embed="rId1"/>
          <a:stretch/>
        </p:blipFill>
        <p:spPr>
          <a:xfrm>
            <a:off x="468360" y="3789360"/>
            <a:ext cx="4010040" cy="2519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Opiacee (heroina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uternic euforiza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stompează activitatea intelectuală a omului şi influenţează starea sa psihică în sensul eliminării fricii şi proastei dispozi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abcese ale extremităţ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arii dentare şi leziuni asoci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reducerea masei muscu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odificări trofice şi leziuni la nivelul picioar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cab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ulceraţii şi flebite (inflamaţii ale venelor) la nivelul membrelor inferioare- bronşite purul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neumo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boli cu transmitere sexu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ize psihiatrice/comportament suicid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fecţia HI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tuberculoz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hepatita virală A/B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ipuridroguri_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330800"/>
            <a:ext cx="3095640" cy="1834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Halucinogen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038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ări de anxietate masiv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persoana afectată se comportă ca un bolnav psi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tentativele de suicid - de exemplu săritura pe geam, persoana drogată având convingerea că poate zb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ări anxioase, de paranoia şi halucinaţii</a:t>
            </a: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depresii şi anxie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aud voci bizare sau muzică str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unii se cred a fi dracul în persoa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accese de autoagresiune neinhibată ce pot merge până la automuti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rupturi cromosomiale la nivel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malformaţii congenitale, la copiii mamelor care au consumat LSD în timpul sarci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tipuridroguri_32m"/>
          <p:cNvPicPr/>
          <p:nvPr/>
        </p:nvPicPr>
        <p:blipFill>
          <a:blip r:embed="rId1"/>
          <a:stretch/>
        </p:blipFill>
        <p:spPr>
          <a:xfrm>
            <a:off x="4970520" y="4292640"/>
            <a:ext cx="3417840" cy="22654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Amfe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uprimă senzaţia de foame, determinând reducerea aportului alim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nevoia de somn dis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enzaţia de oboseală este suprim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ispoziţia persoanei este constant negativă şi tension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292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pendentul se simte ameninţat şi urmărit de orice persoană necunoscută, are halucinaţii auditive şi este complet deru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epuizarea generală a organism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tipuridroguri_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076640"/>
            <a:ext cx="3456000" cy="2390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Sedative şi somnifere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lafonare în plan afectiv, apatie, lipsa trăirilor emoţ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lăbirea creativită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capacitatea rezolvării conflict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ierderea simţului răspunde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omportament social neave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ai rar: manii, accese de furie, halucinaţii, psiho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imentarea unor relaţii sociale nesatisfăcăto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osibil, amplificarea stărilor depre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insomnie în primele ore ale dimine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creşterea în greu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pierderea libido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stare generală de slăbici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buimăce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dezint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mahmure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puridroguri_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046400"/>
            <a:ext cx="3672000" cy="226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oca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tare generală de euf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enzaţia de fericire supraomeneas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tare de mulţumire supranatur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sentiment covârşitor de uniune cu lum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dilatarea pupilelor, ochii străluci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tahicardie (puls acceler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roşirea feţei, transpira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hiperventilaţ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creşterea temperaturii şi creşterea tensiunii art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excitaţia nervoasă centrală poate duce la apariţia unor crize convulsive şi a unor mişcări primitiv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alterări ale caracter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leziuni cerebrale grave ce duc la dem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în stadiul final apare o dezintegrare fizică to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Arial"/>
              </a:rPr>
              <a:t>- halucinaţii tac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tipuridroguri_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292640"/>
            <a:ext cx="4105440" cy="2293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Cr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3610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enzaţia creşterii capacităţii de concent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pneumo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hipertensiune arteri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lipsa apetitului (anorexi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usturimea pielii (pruri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are de nelinişte şi confuz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6480" y="1412640"/>
            <a:ext cx="3827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manifestări paranoide şi schizofren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stare de epuizare tota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vasoconstricţie (consecinţa: afecţiuni cardi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hipertensiune arterială (consecinţa: accidentul vascular cer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c000"/>
                </a:solidFill>
                <a:latin typeface="Arial"/>
              </a:rPr>
              <a:t>- leziuni pulmo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tipuridroguri_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413000"/>
            <a:ext cx="8136000" cy="4752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Arial"/>
              </a:rPr>
              <a:t>Ecstasy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Efecte pe termen scu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ilatarea pupile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creşterea frecvenţei cardicae/tensiunii arteri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bronhodilataţ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încordarea muşchilor mandibul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greaţ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uscăciunea gu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ranspira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creşterea temepraturii corp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nevoia de a ur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bruxism (scrâşnirea dinţilo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ureri de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Efecte pe termen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sistemul natural de alarmă al omului este abo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deces prin hipertermie şi deshidratarea organismului- hiperterm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slăbiciune muscular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rombembo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insuficienţă renală acut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insuficienţă hepatică toxi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ulburări de respiraţ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- tulburări cardiace până la col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3T11:57:33Z</dcterms:created>
  <dc:creator>Luiza</dc:creator>
  <dc:description/>
  <dc:language>en-US</dc:language>
  <cp:lastModifiedBy>Luiza</cp:lastModifiedBy>
  <dcterms:modified xsi:type="dcterms:W3CDTF">2012-03-28T15:52:57Z</dcterms:modified>
  <cp:revision>9</cp:revision>
  <dc:subject/>
  <dc:title>Haşişul şi marihuna </dc:title>
</cp:coreProperties>
</file>